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34.gif" ContentType="image/gif"/>
  <Override PartName="/ppt/media/image26.png" ContentType="image/png"/>
  <Override PartName="/ppt/media/image19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4.gif" ContentType="image/gif"/>
  <Override PartName="/ppt/media/image31.jpeg" ContentType="image/jpeg"/>
  <Override PartName="/ppt/media/image16.jpeg" ContentType="image/jpeg"/>
  <Override PartName="/ppt/media/image13.gif" ContentType="image/gif"/>
  <Override PartName="/ppt/media/image22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29.jpeg" ContentType="image/jpeg"/>
  <Override PartName="/ppt/media/image30.gif" ContentType="image/gif"/>
  <Override PartName="/ppt/media/image33.png" ContentType="image/png"/>
  <Override PartName="/ppt/media/image39.jpeg" ContentType="image/jpeg"/>
  <Override PartName="/ppt/media/image8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8.gif" ContentType="image/gif"/>
  <Override PartName="/ppt/media/image41.png" ContentType="image/png"/>
  <Override PartName="/ppt/media/image6.jpeg" ContentType="image/jpeg"/>
  <Override PartName="/ppt/media/image15.gif" ContentType="image/gif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7FD7-28D8-4A07-B750-D446DD530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12BB3-F6F6-4825-B327-321CEE81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0442-F115-4B84-B4E7-33AB0F7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1687-A92F-4EB9-B3AC-8D3C45F46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C11B-0E93-47A4-8196-EED9EC6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3E08-EC04-4384-8D2C-14475CCE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28E2-9CDF-4077-8EF5-B5C587C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45FB-1F96-46CE-A671-32701640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0F97-AED8-44A5-825C-7EF159EA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5B57-8D67-41B7-8BE3-0464928F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288C-3B51-44CE-B611-2CF7C76C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A008-3885-4BA2-8C3B-2890AA4D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83F5-BAEE-46D5-8DE6-B69DE54CD5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21818"/>
                </a:solidFill>
                <a:latin typeface="New York"/>
              </a:rPr>
              <a:t>The States of Matter</a:t>
            </a:r>
            <a:endParaRPr b="0" lang="en-US" sz="6000" spc="-1" strike="noStrike">
              <a:solidFill>
                <a:srgbClr val="0099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nn3gas"/>
          <p:cNvPicPr/>
          <p:nvPr/>
        </p:nvPicPr>
        <p:blipFill>
          <a:blip r:embed="rId1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89160" y="1219320"/>
            <a:ext cx="64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no definite shape or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83400" y="1676520"/>
            <a:ext cx="53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ergy is too high for particle attra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295280" y="21337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far apart and move rapid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3124080" y="3505320"/>
            <a:ext cx="2590920" cy="2252520"/>
            <a:chOff x="3124080" y="3505320"/>
            <a:chExt cx="2590920" cy="2252520"/>
          </a:xfrm>
        </p:grpSpPr>
        <p:pic>
          <p:nvPicPr>
            <p:cNvPr id="115" name="Picture 9" descr="gas"/>
            <p:cNvPicPr/>
            <p:nvPr/>
          </p:nvPicPr>
          <p:blipFill>
            <a:blip r:embed="rId2"/>
            <a:stretch/>
          </p:blipFill>
          <p:spPr>
            <a:xfrm>
              <a:off x="3124080" y="3505320"/>
              <a:ext cx="2590920" cy="2252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6" name="Oval 11"/>
            <p:cNvSpPr/>
            <p:nvPr/>
          </p:nvSpPr>
          <p:spPr>
            <a:xfrm>
              <a:off x="3352680" y="3733920"/>
              <a:ext cx="2133720" cy="60948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Picture 14" descr="gas particles move about much more than liquids and solids"/>
          <p:cNvPicPr/>
          <p:nvPr/>
        </p:nvPicPr>
        <p:blipFill>
          <a:blip r:embed="rId3"/>
          <a:stretch/>
        </p:blipFill>
        <p:spPr>
          <a:xfrm>
            <a:off x="228600" y="582948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118" name="Oval 15"/>
          <p:cNvSpPr/>
          <p:nvPr/>
        </p:nvSpPr>
        <p:spPr>
          <a:xfrm>
            <a:off x="6095880" y="3048120"/>
            <a:ext cx="221004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019920" y="3276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, June 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10:38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D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Plas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89160" y="1219320"/>
            <a:ext cx="64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have high energy (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HOT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 and g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82320" y="1676520"/>
            <a:ext cx="682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most common phase of matter in the unive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99% of observable matter in the universe is plasm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6" descr="20060324-sun-full"/>
          <p:cNvPicPr/>
          <p:nvPr/>
        </p:nvPicPr>
        <p:blipFill>
          <a:blip r:embed="rId1"/>
          <a:stretch/>
        </p:blipFill>
        <p:spPr>
          <a:xfrm>
            <a:off x="3657600" y="2835360"/>
            <a:ext cx="2328840" cy="21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lightning-2a7z"/>
          <p:cNvPicPr/>
          <p:nvPr/>
        </p:nvPicPr>
        <p:blipFill>
          <a:blip r:embed="rId2"/>
          <a:stretch/>
        </p:blipFill>
        <p:spPr>
          <a:xfrm rot="559200">
            <a:off x="5333760" y="4053960"/>
            <a:ext cx="3171600" cy="211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light_bulbs_72dpi"/>
          <p:cNvPicPr/>
          <p:nvPr/>
        </p:nvPicPr>
        <p:blipFill>
          <a:blip r:embed="rId3"/>
          <a:stretch/>
        </p:blipFill>
        <p:spPr>
          <a:xfrm rot="20595600">
            <a:off x="1219320" y="2971440"/>
            <a:ext cx="2095560" cy="161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dog_star"/>
          <p:cNvPicPr/>
          <p:nvPr/>
        </p:nvPicPr>
        <p:blipFill>
          <a:blip r:embed="rId4"/>
          <a:stretch/>
        </p:blipFill>
        <p:spPr>
          <a:xfrm>
            <a:off x="914400" y="4435560"/>
            <a:ext cx="1828800" cy="1736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9"/>
          <p:cNvSpPr/>
          <p:nvPr/>
        </p:nvSpPr>
        <p:spPr>
          <a:xfrm>
            <a:off x="1295280" y="22701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ampl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48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oday you will need two colored pencils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30480" y="2690640"/>
            <a:ext cx="6400800" cy="13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One that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One that is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08160" y="27432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For matter to change phase….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81200" y="1430280"/>
            <a:ext cx="7684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t in (matter heats),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n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Endothermic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 is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taken out (matter cool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his is an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ff"/>
                </a:solidFill>
                <a:uFillTx/>
                <a:latin typeface="Arial"/>
              </a:rPr>
              <a:t>Exothermic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.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6 phase changes you’ll need to kn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zi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  Mel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ensa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   Vapor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limation                 6.    De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2687760" y="3432240"/>
            <a:ext cx="41893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3"/>
          <p:cNvSpPr/>
          <p:nvPr/>
        </p:nvSpPr>
        <p:spPr>
          <a:xfrm>
            <a:off x="3956040" y="3489480"/>
            <a:ext cx="685800" cy="76356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04800" y="3322800"/>
            <a:ext cx="812880" cy="799920"/>
          </a:xfrm>
          <a:prstGeom prst="cube">
            <a:avLst>
              <a:gd name="adj" fmla="val 2500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30360" y="3639960"/>
            <a:ext cx="520560" cy="3556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Solid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68640" y="3811680"/>
            <a:ext cx="647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Liquid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407280" y="3157560"/>
            <a:ext cx="1244520" cy="1054080"/>
          </a:xfrm>
          <a:prstGeom prst="cloudCallout">
            <a:avLst>
              <a:gd name="adj1" fmla="val -41685"/>
              <a:gd name="adj2" fmla="val 3144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762600" y="3427560"/>
            <a:ext cx="648000" cy="27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Ga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514440" y="3475080"/>
            <a:ext cx="965160" cy="253800"/>
          </a:xfrm>
          <a:prstGeom prst="rightArrow">
            <a:avLst>
              <a:gd name="adj1" fmla="val 50000"/>
              <a:gd name="adj2" fmla="val 950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922480" y="441360"/>
            <a:ext cx="363060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352e"/>
                </a:solidFill>
                <a:latin typeface="Calibri"/>
              </a:rPr>
              <a:t>The 6 Phase Chan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593720" y="2333520"/>
            <a:ext cx="6883560" cy="673200"/>
          </a:xfrm>
          <a:custGeom>
            <a:avLst/>
            <a:gdLst>
              <a:gd name="textAreaLeft" fmla="*/ 1293120 w 6883560"/>
              <a:gd name="textAreaRight" fmla="*/ 4548240 w 688356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16" hR="21600" stAng="10800000" swAng="5400000"/>
                <a:lnTo>
                  <a:pt x="10214" y="0"/>
                </a:lnTo>
                <a:arcTo wR="8116" hR="21600" stAng="-5400000" swAng="2806326"/>
                <a:lnTo>
                  <a:pt x="21137" y="14407"/>
                </a:lnTo>
                <a:lnTo>
                  <a:pt x="17280" y="21600"/>
                </a:lnTo>
                <a:lnTo>
                  <a:pt x="12497" y="14407"/>
                </a:lnTo>
                <a:lnTo>
                  <a:pt x="15768" y="14407"/>
                </a:lnTo>
                <a:arcTo wR="8116" hR="21600" stAng="-2593674" swAng="-2638094"/>
                <a:lnTo>
                  <a:pt x="9165" y="181"/>
                </a:lnTo>
                <a:arcTo wR="8116" hR="21600" stAng="-5568232" swAng="-5231768"/>
                <a:close/>
              </a:path>
              <a:path fill="darkenLess" w="21600" h="21600">
                <a:moveTo>
                  <a:pt x="0" y="21600"/>
                </a:moveTo>
                <a:arcTo wR="8116" hR="21600" stAng="10800000" swAng="5400000"/>
                <a:lnTo>
                  <a:pt x="8116" y="0"/>
                </a:lnTo>
                <a:arcTo wR="8116" hR="21600" stAng="-5400000" swAng="168232"/>
                <a:lnTo>
                  <a:pt x="9165" y="181"/>
                </a:lnTo>
                <a:arcTo wR="8116" hR="21600" stAng="-5568232" swAng="-5231768"/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 rot="10800000">
            <a:off x="539640" y="4479480"/>
            <a:ext cx="6870960" cy="673200"/>
          </a:xfrm>
          <a:custGeom>
            <a:avLst/>
            <a:gdLst>
              <a:gd name="textAreaLeft" fmla="*/ 1290600 w 6870960"/>
              <a:gd name="textAreaRight" fmla="*/ 4539600 w 687096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16" hR="21600" stAng="10800000" swAng="5400000"/>
                <a:lnTo>
                  <a:pt x="10214" y="0"/>
                </a:lnTo>
                <a:arcTo wR="8116" hR="21600" stAng="-5400000" swAng="2806326"/>
                <a:lnTo>
                  <a:pt x="21137" y="14407"/>
                </a:lnTo>
                <a:lnTo>
                  <a:pt x="17280" y="21600"/>
                </a:lnTo>
                <a:lnTo>
                  <a:pt x="12497" y="14407"/>
                </a:lnTo>
                <a:lnTo>
                  <a:pt x="15768" y="14407"/>
                </a:lnTo>
                <a:arcTo wR="8116" hR="21600" stAng="-2593674" swAng="-2638094"/>
                <a:lnTo>
                  <a:pt x="9165" y="181"/>
                </a:lnTo>
                <a:arcTo wR="8116" hR="21600" stAng="-5568232" swAng="-5231768"/>
                <a:close/>
              </a:path>
              <a:path fill="darkenLess" w="21600" h="21600">
                <a:moveTo>
                  <a:pt x="0" y="21600"/>
                </a:moveTo>
                <a:arcTo wR="8116" hR="21600" stAng="10800000" swAng="5400000"/>
                <a:lnTo>
                  <a:pt x="8116" y="0"/>
                </a:lnTo>
                <a:arcTo wR="8116" hR="21600" stAng="-5400000" swAng="168232"/>
                <a:lnTo>
                  <a:pt x="9165" y="181"/>
                </a:lnTo>
                <a:arcTo wR="8116" hR="21600" stAng="-5568232" swAng="-5231768"/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482920" y="3487680"/>
            <a:ext cx="1460520" cy="241200"/>
          </a:xfrm>
          <a:prstGeom prst="rightArrow">
            <a:avLst>
              <a:gd name="adj1" fmla="val 50000"/>
              <a:gd name="adj2" fmla="val 1513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3"/>
          <p:cNvSpPr/>
          <p:nvPr/>
        </p:nvSpPr>
        <p:spPr>
          <a:xfrm rot="10800000">
            <a:off x="2507760" y="3776400"/>
            <a:ext cx="1460520" cy="253800"/>
          </a:xfrm>
          <a:prstGeom prst="rightArrow">
            <a:avLst>
              <a:gd name="adj1" fmla="val 50000"/>
              <a:gd name="adj2" fmla="val 143865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908600" y="3487680"/>
            <a:ext cx="1498680" cy="241200"/>
          </a:xfrm>
          <a:prstGeom prst="rightArrow">
            <a:avLst>
              <a:gd name="adj1" fmla="val 50000"/>
              <a:gd name="adj2" fmla="val 155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 rot="10800000">
            <a:off x="4971600" y="3779640"/>
            <a:ext cx="1460520" cy="253800"/>
          </a:xfrm>
          <a:prstGeom prst="rightArrow">
            <a:avLst>
              <a:gd name="adj1" fmla="val 50000"/>
              <a:gd name="adj2" fmla="val 143865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5400000">
            <a:off x="6711840" y="2547720"/>
            <a:ext cx="965160" cy="254160"/>
          </a:xfrm>
          <a:prstGeom prst="rightArrow">
            <a:avLst>
              <a:gd name="adj1" fmla="val 50000"/>
              <a:gd name="adj2" fmla="val 949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AutoShape 17"/>
          <p:cNvCxnSpPr/>
          <p:nvPr/>
        </p:nvCxnSpPr>
        <p:spPr>
          <a:xfrm>
            <a:off x="7105320" y="4262400"/>
            <a:ext cx="1080" cy="1046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18"/>
          <p:cNvSpPr/>
          <p:nvPr/>
        </p:nvSpPr>
        <p:spPr>
          <a:xfrm rot="19316400">
            <a:off x="5961240" y="5032440"/>
            <a:ext cx="2531880" cy="1520640"/>
          </a:xfrm>
          <a:prstGeom prst="lightningBol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905040" y="152100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 rot="16200000">
            <a:off x="904680" y="152028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 rot="18900000">
            <a:off x="912600" y="153360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 rot="13500000">
            <a:off x="899640" y="1533240"/>
            <a:ext cx="33840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AutoShape 23"/>
          <p:cNvCxnSpPr/>
          <p:nvPr/>
        </p:nvCxnSpPr>
        <p:spPr>
          <a:xfrm>
            <a:off x="2470320" y="3423960"/>
            <a:ext cx="1181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AutoShape 24"/>
          <p:cNvCxnSpPr/>
          <p:nvPr/>
        </p:nvCxnSpPr>
        <p:spPr>
          <a:xfrm>
            <a:off x="2482560" y="4389120"/>
            <a:ext cx="11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AutoShape 25"/>
          <p:cNvCxnSpPr/>
          <p:nvPr/>
        </p:nvCxnSpPr>
        <p:spPr>
          <a:xfrm>
            <a:off x="4971600" y="342396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AutoShape 26"/>
          <p:cNvSpPr/>
          <p:nvPr/>
        </p:nvSpPr>
        <p:spPr>
          <a:xfrm rot="14388600">
            <a:off x="1035720" y="2748240"/>
            <a:ext cx="1058760" cy="254160"/>
          </a:xfrm>
          <a:prstGeom prst="rightArrow">
            <a:avLst>
              <a:gd name="adj1" fmla="val 50000"/>
              <a:gd name="adj2" fmla="val 104143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AutoShape 27"/>
          <p:cNvCxnSpPr/>
          <p:nvPr/>
        </p:nvCxnSpPr>
        <p:spPr>
          <a:xfrm>
            <a:off x="5136840" y="439056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0" name="AutoShape 28"/>
          <p:cNvCxnSpPr/>
          <p:nvPr/>
        </p:nvCxnSpPr>
        <p:spPr>
          <a:xfrm>
            <a:off x="3651120" y="2192040"/>
            <a:ext cx="1588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AutoShape 29"/>
          <p:cNvCxnSpPr/>
          <p:nvPr/>
        </p:nvCxnSpPr>
        <p:spPr>
          <a:xfrm>
            <a:off x="3865320" y="5582880"/>
            <a:ext cx="15008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AutoShape 36"/>
          <p:cNvCxnSpPr/>
          <p:nvPr/>
        </p:nvCxnSpPr>
        <p:spPr>
          <a:xfrm>
            <a:off x="2545920" y="438912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3" name="WordArt 37"/>
          <p:cNvSpPr txBox="1"/>
          <p:nvPr/>
        </p:nvSpPr>
        <p:spPr>
          <a:xfrm>
            <a:off x="900000" y="914400"/>
            <a:ext cx="180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ndothermic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64" name="WordArt 37"/>
          <p:cNvSpPr txBox="1"/>
          <p:nvPr/>
        </p:nvSpPr>
        <p:spPr>
          <a:xfrm>
            <a:off x="6054840" y="92880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Exothermic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</p:txBody>
      </p:sp>
      <p:sp>
        <p:nvSpPr>
          <p:cNvPr id="165" name="Oval 38"/>
          <p:cNvSpPr/>
          <p:nvPr/>
        </p:nvSpPr>
        <p:spPr>
          <a:xfrm>
            <a:off x="3983040" y="3438360"/>
            <a:ext cx="660240" cy="2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956040" y="3157560"/>
            <a:ext cx="685800" cy="110484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Rectangle 41" descr=""/>
          <p:cNvPicPr/>
          <p:nvPr/>
        </p:nvPicPr>
        <p:blipFill>
          <a:blip r:embed="rId1"/>
          <a:stretch/>
        </p:blipFill>
        <p:spPr>
          <a:xfrm>
            <a:off x="6357960" y="5035680"/>
            <a:ext cx="1670040" cy="147456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42" descr=""/>
          <p:cNvPicPr/>
          <p:nvPr/>
        </p:nvPicPr>
        <p:blipFill>
          <a:blip r:embed="rId2"/>
          <a:stretch/>
        </p:blipFill>
        <p:spPr>
          <a:xfrm>
            <a:off x="506520" y="1695600"/>
            <a:ext cx="1206360" cy="603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3"/>
          <p:cNvSpPr/>
          <p:nvPr/>
        </p:nvSpPr>
        <p:spPr>
          <a:xfrm>
            <a:off x="2398680" y="30430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1.Mel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4727160" y="30798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2.Vapor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4591080" y="4056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4.Condens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2445480" y="40543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3.Freez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7"/>
          <p:cNvSpPr/>
          <p:nvPr/>
        </p:nvSpPr>
        <p:spPr>
          <a:xfrm>
            <a:off x="3458520" y="185112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5. Subl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3571560" y="525312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6. De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581400" y="32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He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9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Heating</a:t>
            </a: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urve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520560" y="1617840"/>
            <a:ext cx="81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substance moves from one phase to another, the temperature remains constant until the change is complet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09840" y="3029040"/>
          <a:ext cx="6095880" cy="29671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13"/>
          <p:cNvSpPr/>
          <p:nvPr/>
        </p:nvSpPr>
        <p:spPr>
          <a:xfrm>
            <a:off x="1660680" y="54720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064040" y="45133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25"/>
          <p:cNvGrpSpPr/>
          <p:nvPr/>
        </p:nvGrpSpPr>
        <p:grpSpPr>
          <a:xfrm>
            <a:off x="1533600" y="3063600"/>
            <a:ext cx="5989680" cy="2928960"/>
            <a:chOff x="1533600" y="3063600"/>
            <a:chExt cx="5989680" cy="2928960"/>
          </a:xfrm>
        </p:grpSpPr>
        <p:sp>
          <p:nvSpPr>
            <p:cNvPr id="182" name="Straight Connector 6"/>
            <p:cNvSpPr/>
            <p:nvPr/>
          </p:nvSpPr>
          <p:spPr>
            <a:xfrm flipV="1">
              <a:off x="1533600" y="5247000"/>
              <a:ext cx="1223640" cy="745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8"/>
            <p:cNvSpPr/>
            <p:nvPr/>
          </p:nvSpPr>
          <p:spPr>
            <a:xfrm>
              <a:off x="2799360" y="5247360"/>
              <a:ext cx="1153440" cy="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9"/>
            <p:cNvSpPr/>
            <p:nvPr/>
          </p:nvSpPr>
          <p:spPr>
            <a:xfrm flipV="1">
              <a:off x="3964680" y="4177440"/>
              <a:ext cx="1169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1"/>
            <p:cNvSpPr/>
            <p:nvPr/>
          </p:nvSpPr>
          <p:spPr>
            <a:xfrm>
              <a:off x="5120280" y="4155480"/>
              <a:ext cx="123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V="1">
              <a:off x="6353640" y="3063600"/>
              <a:ext cx="1169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Box 22"/>
          <p:cNvSpPr/>
          <p:nvPr/>
        </p:nvSpPr>
        <p:spPr>
          <a:xfrm>
            <a:off x="6424560" y="34005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23"/>
          <p:cNvSpPr/>
          <p:nvPr/>
        </p:nvSpPr>
        <p:spPr>
          <a:xfrm>
            <a:off x="3708360" y="605808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 add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304920" y="422928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 º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Callout 26"/>
          <p:cNvSpPr/>
          <p:nvPr/>
        </p:nvSpPr>
        <p:spPr>
          <a:xfrm>
            <a:off x="5443560" y="5232240"/>
            <a:ext cx="1998720" cy="6764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Callout 27"/>
          <p:cNvSpPr/>
          <p:nvPr/>
        </p:nvSpPr>
        <p:spPr>
          <a:xfrm>
            <a:off x="5738760" y="5543640"/>
            <a:ext cx="1787400" cy="1138320"/>
          </a:xfrm>
          <a:prstGeom prst="wedgeEllipseCallout">
            <a:avLst>
              <a:gd name="adj1" fmla="val -185402"/>
              <a:gd name="adj2" fmla="val -74546"/>
            </a:avLst>
          </a:prstGeom>
          <a:solidFill>
            <a:srgbClr val="809ea8"/>
          </a:solidFill>
          <a:ln w="9360">
            <a:solidFill>
              <a:srgbClr val="3435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°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Callout 28"/>
          <p:cNvSpPr/>
          <p:nvPr/>
        </p:nvSpPr>
        <p:spPr>
          <a:xfrm>
            <a:off x="6989760" y="4302000"/>
            <a:ext cx="1785960" cy="1170000"/>
          </a:xfrm>
          <a:prstGeom prst="wedgeEllipseCallout">
            <a:avLst>
              <a:gd name="adj1" fmla="val -112949"/>
              <a:gd name="adj2" fmla="val -64074"/>
            </a:avLst>
          </a:prstGeom>
          <a:solidFill>
            <a:srgbClr val="809ea8"/>
          </a:solidFill>
          <a:ln w="9360">
            <a:solidFill>
              <a:srgbClr val="3435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°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7120" y="274320"/>
            <a:ext cx="709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Schoolbook"/>
              </a:rPr>
              <a:t>      </a:t>
            </a:r>
            <a:r>
              <a:rPr b="0" lang="en-US" sz="4400" spc="-1" strike="noStrike">
                <a:solidFill>
                  <a:srgbClr val="ccffff"/>
                </a:solidFill>
                <a:latin typeface="Century Schoolbook"/>
              </a:rPr>
              <a:t>6 Before The Door!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5 phases of mat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rticles of matter are in _________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has no definite shape or volu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has a definite volume but no definite sha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is like you guys at a typical pep-ral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change occurs when you change from a gas to a liqu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066680" y="228600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How do gasses react to changes in their environment 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5800" y="6858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Focus:   The Gas pha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V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The Behavior of Gases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872440" y="6477120"/>
            <a:ext cx="614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How do gases react to changes to their environment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91440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Press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289160" y="1812960"/>
            <a:ext cx="72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colliding into a surface causes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81960" y="2270160"/>
            <a:ext cx="49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essure is affected by three fa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523880" y="272736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raising the temperature increases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peed of the molecule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is increases the pressure of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as.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481640" y="1675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3" descr="Scan0002"/>
          <p:cNvPicPr/>
          <p:nvPr/>
        </p:nvPicPr>
        <p:blipFill>
          <a:blip r:embed="rId1"/>
          <a:stretch/>
        </p:blipFill>
        <p:spPr>
          <a:xfrm>
            <a:off x="2851200" y="3965400"/>
            <a:ext cx="3016080" cy="22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Picture 17" descr="ethene model"/>
          <p:cNvPicPr/>
          <p:nvPr/>
        </p:nvPicPr>
        <p:blipFill>
          <a:blip r:embed="rId2"/>
          <a:stretch/>
        </p:blipFill>
        <p:spPr>
          <a:xfrm>
            <a:off x="73915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5"/>
          <p:cNvSpPr/>
          <p:nvPr/>
        </p:nvSpPr>
        <p:spPr>
          <a:xfrm>
            <a:off x="7810560" y="5486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y m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52388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Volum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reducing the volume of a gas increa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gas molecules and volume or temp"/>
          <p:cNvPicPr/>
          <p:nvPr/>
        </p:nvPicPr>
        <p:blipFill>
          <a:blip r:embed="rId1"/>
          <a:stretch/>
        </p:blipFill>
        <p:spPr>
          <a:xfrm>
            <a:off x="3733920" y="472428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trans64"/>
          <p:cNvPicPr/>
          <p:nvPr/>
        </p:nvPicPr>
        <p:blipFill>
          <a:blip r:embed="rId2"/>
          <a:stretch/>
        </p:blipFill>
        <p:spPr>
          <a:xfrm>
            <a:off x="2590920" y="1676520"/>
            <a:ext cx="3657600" cy="243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Text Box 14"/>
          <p:cNvSpPr/>
          <p:nvPr/>
        </p:nvSpPr>
        <p:spPr>
          <a:xfrm>
            <a:off x="5410080" y="51055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Notice how the particles collide more as the volume decreas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898560" y="289548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entury Schoolbook"/>
              </a:rPr>
              <a:t>How does matter respond to its environment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457200" y="1295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And the </a:t>
            </a: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UNIT</a:t>
            </a: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152388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Number of particl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the more particles there are,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re collisions occur causing more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conc"/>
          <p:cNvPicPr/>
          <p:nvPr/>
        </p:nvPicPr>
        <p:blipFill>
          <a:blip r:embed="rId1"/>
          <a:stretch/>
        </p:blipFill>
        <p:spPr>
          <a:xfrm>
            <a:off x="2666880" y="2131920"/>
            <a:ext cx="4343400" cy="213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PhET Logo"/>
          <p:cNvPicPr/>
          <p:nvPr/>
        </p:nvPicPr>
        <p:blipFill>
          <a:blip r:embed="rId2"/>
          <a:stretch/>
        </p:blipFill>
        <p:spPr>
          <a:xfrm>
            <a:off x="6181560" y="5019840"/>
            <a:ext cx="2305080" cy="1209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6062760" y="47131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 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An animated version of Charles and Gay-Lussac's law.&#10; Volume equals a constant times the temperature.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651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914400" y="30492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harles’s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289160" y="914400"/>
            <a:ext cx="54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s the temperature of a gas increases, so will the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295280" y="41911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Temperature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 will have a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relation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Charles's Law example"/>
          <p:cNvPicPr/>
          <p:nvPr/>
        </p:nvPicPr>
        <p:blipFill>
          <a:blip r:embed="rId2"/>
          <a:stretch/>
        </p:blipFill>
        <p:spPr>
          <a:xfrm>
            <a:off x="2666880" y="1676520"/>
            <a:ext cx="2748240" cy="20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220" name="Group 17"/>
          <p:cNvGrpSpPr/>
          <p:nvPr/>
        </p:nvGrpSpPr>
        <p:grpSpPr>
          <a:xfrm>
            <a:off x="1600200" y="5410080"/>
            <a:ext cx="1905120" cy="1030320"/>
            <a:chOff x="1600200" y="5410080"/>
            <a:chExt cx="1905120" cy="1030320"/>
          </a:xfrm>
        </p:grpSpPr>
        <p:sp>
          <p:nvSpPr>
            <p:cNvPr id="221" name="Text Box 12"/>
            <p:cNvSpPr/>
            <p:nvPr/>
          </p:nvSpPr>
          <p:spPr>
            <a:xfrm>
              <a:off x="1600200" y="5410080"/>
              <a:ext cx="6094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2895480" y="5472000"/>
              <a:ext cx="6098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1600200" y="5943600"/>
              <a:ext cx="5335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2895480" y="5929200"/>
              <a:ext cx="5335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236232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6580080" y="298440"/>
            <a:ext cx="1924200" cy="2594160"/>
            <a:chOff x="6580080" y="298440"/>
            <a:chExt cx="1924200" cy="2594160"/>
          </a:xfrm>
        </p:grpSpPr>
        <p:pic>
          <p:nvPicPr>
            <p:cNvPr id="227" name="Picture 19" descr="TV%20Set"/>
            <p:cNvPicPr/>
            <p:nvPr/>
          </p:nvPicPr>
          <p:blipFill>
            <a:blip r:embed="rId3"/>
            <a:stretch/>
          </p:blipFill>
          <p:spPr>
            <a:xfrm>
              <a:off x="6580080" y="298440"/>
              <a:ext cx="192420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WordArt 21"/>
            <p:cNvSpPr txBox="1"/>
            <p:nvPr/>
          </p:nvSpPr>
          <p:spPr>
            <a:xfrm rot="20304000">
              <a:off x="7467120" y="1477800"/>
              <a:ext cx="85896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harles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V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29" name="Text Box 23"/>
          <p:cNvSpPr/>
          <p:nvPr/>
        </p:nvSpPr>
        <p:spPr>
          <a:xfrm>
            <a:off x="4740120" y="290520"/>
            <a:ext cx="12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(TV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14400" y="3049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oyle’s Law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89160" y="914400"/>
            <a:ext cx="724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s the volume of a gas decreases, the press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the gas incre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4960" y="4130640"/>
            <a:ext cx="37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Volume and pressure will have an inverse relationship.  As volume decreases, pressure incre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9" descr="Boyle's Law"/>
          <p:cNvPicPr/>
          <p:nvPr/>
        </p:nvPicPr>
        <p:blipFill>
          <a:blip r:embed="rId1"/>
          <a:stretch/>
        </p:blipFill>
        <p:spPr>
          <a:xfrm>
            <a:off x="2514600" y="1676520"/>
            <a:ext cx="2819520" cy="20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Picture 11" descr="An animated version of Boyle's law.&#13;&#10; Pressure times volume equals a constant."/>
          <p:cNvPicPr/>
          <p:nvPr/>
        </p:nvPicPr>
        <p:blipFill>
          <a:blip r:embed="rId2"/>
          <a:stretch/>
        </p:blipFill>
        <p:spPr>
          <a:xfrm>
            <a:off x="4419720" y="3975120"/>
            <a:ext cx="3504960" cy="2654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2"/>
          <p:cNvSpPr/>
          <p:nvPr/>
        </p:nvSpPr>
        <p:spPr>
          <a:xfrm>
            <a:off x="1523880" y="5905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=  P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6280200" y="1619280"/>
            <a:ext cx="2286000" cy="1714320"/>
            <a:chOff x="6280200" y="1619280"/>
            <a:chExt cx="2286000" cy="1714320"/>
          </a:xfrm>
        </p:grpSpPr>
        <p:pic>
          <p:nvPicPr>
            <p:cNvPr id="237" name="Picture 14" descr="25-BoilEggs"/>
            <p:cNvPicPr/>
            <p:nvPr/>
          </p:nvPicPr>
          <p:blipFill>
            <a:blip r:embed="rId3"/>
            <a:stretch/>
          </p:blipFill>
          <p:spPr>
            <a:xfrm>
              <a:off x="6280200" y="161928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WordArt 16"/>
            <p:cNvSpPr txBox="1"/>
            <p:nvPr/>
          </p:nvSpPr>
          <p:spPr>
            <a:xfrm rot="19882200">
              <a:off x="7318080" y="2163600"/>
              <a:ext cx="33984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VP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9" name="Text Box 17"/>
          <p:cNvSpPr/>
          <p:nvPr/>
        </p:nvSpPr>
        <p:spPr>
          <a:xfrm>
            <a:off x="4189320" y="274680"/>
            <a:ext cx="11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(V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D.  Combined Gas Law (PTV)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2438280" y="1828800"/>
            <a:ext cx="4267440" cy="1434600"/>
            <a:chOff x="2438280" y="1828800"/>
            <a:chExt cx="4267440" cy="1434600"/>
          </a:xfrm>
        </p:grpSpPr>
        <p:sp>
          <p:nvSpPr>
            <p:cNvPr id="242" name="Text Box 5"/>
            <p:cNvSpPr/>
            <p:nvPr/>
          </p:nvSpPr>
          <p:spPr>
            <a:xfrm>
              <a:off x="2438280" y="1828800"/>
              <a:ext cx="1600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  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6"/>
            <p:cNvSpPr/>
            <p:nvPr/>
          </p:nvSpPr>
          <p:spPr>
            <a:xfrm>
              <a:off x="5105520" y="1828800"/>
              <a:ext cx="1600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  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4191120" y="22860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1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>
              <a:off x="2438280" y="2590920"/>
              <a:ext cx="14479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5105520" y="2590920"/>
              <a:ext cx="144756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entury Schoolbook"/>
              </a:rPr>
              <a:t>Units used to calculate Pressure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= Pascals (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Pa = </a:t>
            </a:r>
            <a:r>
              <a:rPr b="0" lang="en-US" sz="2400" spc="-1" strike="noStrike">
                <a:solidFill>
                  <a:srgbClr val="ff1515"/>
                </a:solidFill>
                <a:latin typeface="Arial"/>
              </a:rPr>
              <a:t>1 New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orce over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 m</a:t>
            </a:r>
            <a:r>
              <a:rPr b="0" lang="en-US" sz="2400" spc="-1" strike="noStrike" baseline="30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=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or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= -273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= liters or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and Volume  can use metric prefix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Pa       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553080" y="1752480"/>
            <a:ext cx="2346480" cy="18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7051680" y="207324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1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7162920" y="2068560"/>
            <a:ext cx="1692000" cy="1284120"/>
            <a:chOff x="7162920" y="2068560"/>
            <a:chExt cx="1692000" cy="1284120"/>
          </a:xfrm>
        </p:grpSpPr>
        <p:sp>
          <p:nvSpPr>
            <p:cNvPr id="252" name="AutoShape 6"/>
            <p:cNvSpPr/>
            <p:nvPr/>
          </p:nvSpPr>
          <p:spPr>
            <a:xfrm>
              <a:off x="7162920" y="2743200"/>
              <a:ext cx="838080" cy="60948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9"/>
            <p:cNvSpPr/>
            <p:nvPr/>
          </p:nvSpPr>
          <p:spPr>
            <a:xfrm>
              <a:off x="7802640" y="2068560"/>
              <a:ext cx="1052280" cy="6253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1m</a:t>
              </a:r>
              <a:r>
                <a:rPr b="1" lang="en-US" sz="1800" spc="-1" strike="noStrike" baseline="30000">
                  <a:solidFill>
                    <a:srgbClr val="66ff33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7"/>
          <p:cNvSpPr/>
          <p:nvPr/>
        </p:nvSpPr>
        <p:spPr>
          <a:xfrm>
            <a:off x="7346880" y="2057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6599160" y="1798560"/>
            <a:ext cx="2270160" cy="17827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 Pa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entury Schoolbook"/>
              </a:rPr>
              <a:t>Fill in the Venn Diagram below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e Volu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e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Volu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ccff"/>
                </a:solidFill>
                <a:latin typeface="Arial"/>
              </a:rPr>
              <a:t>Soli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Liqui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981080" y="3200400"/>
            <a:ext cx="2514600" cy="2514600"/>
          </a:xfrm>
          <a:prstGeom prst="ellips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3581280" y="3200400"/>
            <a:ext cx="2514600" cy="25146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5105520" y="3200400"/>
            <a:ext cx="2514600" cy="25146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581280" y="4038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Def.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438280" y="4038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Def. 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334120" y="4083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Var. 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6248520" y="4083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Var.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entury Schoolbook"/>
              </a:rPr>
              <a:t>Fill in the Venn Diagram below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ssure                  Temperature            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ff"/>
                </a:solidFill>
                <a:latin typeface="Arial"/>
              </a:rPr>
              <a:t>Charles’ Law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Boyle’s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2552760" y="3200400"/>
            <a:ext cx="2514600" cy="2514600"/>
          </a:xfrm>
          <a:prstGeom prst="ellips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835440" y="3200400"/>
            <a:ext cx="2514600" cy="25146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355840" y="4049640"/>
            <a:ext cx="16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Tempera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3886200" y="4599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Volu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5121360" y="40496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Press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1844640" y="3733920"/>
            <a:ext cx="6659640" cy="1216080"/>
            <a:chOff x="1844640" y="3733920"/>
            <a:chExt cx="6659640" cy="1216080"/>
          </a:xfrm>
        </p:grpSpPr>
        <p:sp>
          <p:nvSpPr>
            <p:cNvPr id="273" name="Oval 14"/>
            <p:cNvSpPr/>
            <p:nvPr/>
          </p:nvSpPr>
          <p:spPr>
            <a:xfrm>
              <a:off x="1844640" y="3867120"/>
              <a:ext cx="5226120" cy="1082880"/>
            </a:xfrm>
            <a:prstGeom prst="ellipse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629400" y="3733920"/>
              <a:ext cx="187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Combined Gas La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>
              <a:off x="2620800" y="4449600"/>
              <a:ext cx="3643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Text Box 17"/>
          <p:cNvSpPr/>
          <p:nvPr/>
        </p:nvSpPr>
        <p:spPr>
          <a:xfrm>
            <a:off x="4210200" y="402444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3" descr=""/>
          <p:cNvPicPr/>
          <p:nvPr/>
        </p:nvPicPr>
        <p:blipFill>
          <a:blip r:embed="rId1"/>
          <a:stretch/>
        </p:blipFill>
        <p:spPr>
          <a:xfrm>
            <a:off x="1749600" y="865080"/>
            <a:ext cx="5589360" cy="423072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4" descr=""/>
          <p:cNvPicPr/>
          <p:nvPr/>
        </p:nvPicPr>
        <p:blipFill>
          <a:blip r:embed="rId2"/>
          <a:stretch/>
        </p:blipFill>
        <p:spPr>
          <a:xfrm>
            <a:off x="1822320" y="1579680"/>
            <a:ext cx="62420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4"/>
          <p:cNvSpPr txBox="1"/>
          <p:nvPr/>
        </p:nvSpPr>
        <p:spPr>
          <a:xfrm>
            <a:off x="1406520" y="852480"/>
            <a:ext cx="659124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aft Time!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Picture 6" descr="HandTurkey400"/>
          <p:cNvPicPr/>
          <p:nvPr/>
        </p:nvPicPr>
        <p:blipFill>
          <a:blip r:embed="rId1"/>
          <a:stretch/>
        </p:blipFill>
        <p:spPr>
          <a:xfrm>
            <a:off x="884160" y="3057480"/>
            <a:ext cx="24717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ff"/>
                </a:solidFill>
                <a:latin typeface="Century Schoolbook"/>
              </a:rPr>
              <a:t>Index Card Pressure Tool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447920" y="1828800"/>
            <a:ext cx="6553080" cy="3505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7"/>
          <p:cNvSpPr txBox="1"/>
          <p:nvPr/>
        </p:nvSpPr>
        <p:spPr>
          <a:xfrm>
            <a:off x="1905120" y="2362320"/>
            <a:ext cx="1371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3809880" y="2362320"/>
            <a:ext cx="16765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9"/>
          <p:cNvSpPr txBox="1"/>
          <p:nvPr/>
        </p:nvSpPr>
        <p:spPr>
          <a:xfrm>
            <a:off x="6019920" y="2362320"/>
            <a:ext cx="1600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495680" y="3505320"/>
            <a:ext cx="30492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2133720" y="3505320"/>
            <a:ext cx="30456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6705720" y="3505320"/>
            <a:ext cx="30456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4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"/>
          <p:cNvPicPr/>
          <p:nvPr/>
        </p:nvPicPr>
        <p:blipFill>
          <a:blip r:embed="rId3"/>
          <a:stretch/>
        </p:blipFill>
        <p:spPr>
          <a:xfrm>
            <a:off x="2057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6" dur="1407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1407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9" dur="1407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2362320"/>
            <a:ext cx="717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entury Schoolbook"/>
              </a:rPr>
              <a:t>What are the phases of matt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1554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’s Essential Ques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entury Schoolbook"/>
              </a:rPr>
              <a:t>On the Back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1503360" y="1855800"/>
            <a:ext cx="6553080" cy="3505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Boyle’s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V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 =  P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V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3803760" y="3138480"/>
            <a:ext cx="609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683240" y="3200400"/>
            <a:ext cx="609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3803760" y="3616200"/>
            <a:ext cx="53316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683240" y="3602160"/>
            <a:ext cx="53316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4240080" y="343548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3478320" y="285444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Charles’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58000" y="32558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128000" y="3241800"/>
            <a:ext cx="11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6781680" y="3408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7245360" y="3602160"/>
            <a:ext cx="53352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6026040" y="3602160"/>
            <a:ext cx="53352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5985000" y="263196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Combined Gas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entury Schoolbook"/>
              </a:rPr>
              <a:t>Now try it, and answer the following questions.</a:t>
            </a:r>
            <a:endParaRPr b="0" lang="en-US" sz="48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j0214098.wav" descr=""/>
          <p:cNvPicPr/>
          <p:nvPr/>
        </p:nvPicPr>
        <p:blipFill>
          <a:blip r:embed="rId1"/>
          <a:stretch/>
        </p:blipFill>
        <p:spPr>
          <a:xfrm>
            <a:off x="3546360" y="5583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9" name="MSj00974950000[1].wav" descr=""/>
          <p:cNvPicPr/>
          <p:nvPr/>
        </p:nvPicPr>
        <p:blipFill>
          <a:blip r:embed="rId2"/>
          <a:stretch/>
        </p:blipFill>
        <p:spPr>
          <a:xfrm>
            <a:off x="3443400" y="2611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MSSN00789A0000[1].wav" descr=""/>
          <p:cNvPicPr/>
          <p:nvPr/>
        </p:nvPicPr>
        <p:blipFill>
          <a:blip r:embed="rId3"/>
          <a:stretch/>
        </p:blipFill>
        <p:spPr>
          <a:xfrm>
            <a:off x="3733920" y="408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226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3" dur="1679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4745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1"/>
          <p:cNvSpPr/>
          <p:nvPr/>
        </p:nvSpPr>
        <p:spPr>
          <a:xfrm>
            <a:off x="4116240" y="4827600"/>
            <a:ext cx="2362320" cy="1235160"/>
          </a:xfrm>
          <a:prstGeom prst="ellipse">
            <a:avLst/>
          </a:prstGeom>
          <a:solidFill>
            <a:srgbClr val="ff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9"/>
          <p:cNvSpPr/>
          <p:nvPr/>
        </p:nvSpPr>
        <p:spPr>
          <a:xfrm>
            <a:off x="3641760" y="3657600"/>
            <a:ext cx="4846680" cy="1036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3641760" y="2712960"/>
            <a:ext cx="4846680" cy="852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371600" y="0"/>
            <a:ext cx="5715000" cy="24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371600" y="0"/>
            <a:ext cx="571500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the following gas problem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as has a volume of 5L, at a pressure of 50KPa.  What happens to the volume when the pressure is increased to 125KPa?  The temperature doesn’t chan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386000" y="2714760"/>
            <a:ext cx="22003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1 = 50 K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1 = 5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 = 125 K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V2 = ?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T1 =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T2 =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635280" y="28576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1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V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(Boyle’s La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3746520" y="3700440"/>
            <a:ext cx="39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1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V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V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=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 x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057560" y="514656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L = 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V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1676520" y="365040"/>
            <a:ext cx="5486400" cy="60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889280" y="56196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t 10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, the gas in a cylinder has a volume of 0.250 L.  The gas volume is allowed to expand to 0.285 L.  To keep the pressure the same, the temperature is adjusted to what, after expans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191360" y="2754360"/>
            <a:ext cx="195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T2 = 11.4 </a:t>
            </a:r>
            <a:r>
              <a:rPr b="1" lang="en-US" sz="1800" spc="-1" strike="noStrike" baseline="30000">
                <a:solidFill>
                  <a:srgbClr val="ff1515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C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7527960" y="4465800"/>
            <a:ext cx="1341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1676520" y="365040"/>
            <a:ext cx="55339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Gas stored in a 100 liter tank at 273K (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pressure of 388 KPa.  The safe limit f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sure is 825 KPa.  At what temperatu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will the gas reach this pressur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315200" y="5451480"/>
            <a:ext cx="175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T2 = 307.5 </a:t>
            </a:r>
            <a:r>
              <a:rPr b="1" lang="en-US" sz="1800" spc="-1" strike="noStrike" baseline="30000">
                <a:solidFill>
                  <a:srgbClr val="ff1515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679400" y="2068560"/>
            <a:ext cx="5486400" cy="42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The 5 phases of matter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grpSp>
        <p:nvGrpSpPr>
          <p:cNvPr id="45" name="Group 47"/>
          <p:cNvGrpSpPr/>
          <p:nvPr/>
        </p:nvGrpSpPr>
        <p:grpSpPr>
          <a:xfrm>
            <a:off x="941400" y="5029200"/>
            <a:ext cx="3173400" cy="1295280"/>
            <a:chOff x="941400" y="5029200"/>
            <a:chExt cx="3173400" cy="1295280"/>
          </a:xfrm>
        </p:grpSpPr>
        <p:sp>
          <p:nvSpPr>
            <p:cNvPr id="46" name="Oval 38"/>
            <p:cNvSpPr/>
            <p:nvPr/>
          </p:nvSpPr>
          <p:spPr>
            <a:xfrm>
              <a:off x="2514600" y="5029200"/>
              <a:ext cx="1600200" cy="1295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 Box 20"/>
            <p:cNvSpPr/>
            <p:nvPr/>
          </p:nvSpPr>
          <p:spPr>
            <a:xfrm>
              <a:off x="941400" y="5317920"/>
              <a:ext cx="15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D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gas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46"/>
          <p:cNvGrpSpPr/>
          <p:nvPr/>
        </p:nvGrpSpPr>
        <p:grpSpPr>
          <a:xfrm>
            <a:off x="4944240" y="5029200"/>
            <a:ext cx="3894480" cy="1295280"/>
            <a:chOff x="4944240" y="5029200"/>
            <a:chExt cx="3894480" cy="1295280"/>
          </a:xfrm>
        </p:grpSpPr>
        <p:sp>
          <p:nvSpPr>
            <p:cNvPr id="49" name="Text Box 21"/>
            <p:cNvSpPr/>
            <p:nvPr/>
          </p:nvSpPr>
          <p:spPr>
            <a:xfrm>
              <a:off x="4944240" y="5337000"/>
              <a:ext cx="22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E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plasm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39"/>
            <p:cNvSpPr/>
            <p:nvPr/>
          </p:nvSpPr>
          <p:spPr>
            <a:xfrm>
              <a:off x="7238880" y="5029200"/>
              <a:ext cx="1599840" cy="1295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4"/>
          <p:cNvGrpSpPr/>
          <p:nvPr/>
        </p:nvGrpSpPr>
        <p:grpSpPr>
          <a:xfrm>
            <a:off x="977040" y="2971800"/>
            <a:ext cx="3442680" cy="1295280"/>
            <a:chOff x="977040" y="2971800"/>
            <a:chExt cx="3442680" cy="1295280"/>
          </a:xfrm>
        </p:grpSpPr>
        <p:sp>
          <p:nvSpPr>
            <p:cNvPr id="52" name="Text Box 8"/>
            <p:cNvSpPr/>
            <p:nvPr/>
          </p:nvSpPr>
          <p:spPr>
            <a:xfrm>
              <a:off x="977040" y="3296880"/>
              <a:ext cx="17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B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solid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40"/>
            <p:cNvSpPr/>
            <p:nvPr/>
          </p:nvSpPr>
          <p:spPr>
            <a:xfrm>
              <a:off x="2819520" y="2971800"/>
              <a:ext cx="1600200" cy="1295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5"/>
          <p:cNvGrpSpPr/>
          <p:nvPr/>
        </p:nvGrpSpPr>
        <p:grpSpPr>
          <a:xfrm>
            <a:off x="4894200" y="2971800"/>
            <a:ext cx="3640320" cy="1295280"/>
            <a:chOff x="4894200" y="2971800"/>
            <a:chExt cx="3640320" cy="1295280"/>
          </a:xfrm>
        </p:grpSpPr>
        <p:sp>
          <p:nvSpPr>
            <p:cNvPr id="55" name="Text Box 18"/>
            <p:cNvSpPr/>
            <p:nvPr/>
          </p:nvSpPr>
          <p:spPr>
            <a:xfrm>
              <a:off x="4894200" y="3276360"/>
              <a:ext cx="19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C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liquid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41"/>
            <p:cNvSpPr/>
            <p:nvPr/>
          </p:nvSpPr>
          <p:spPr>
            <a:xfrm>
              <a:off x="6934320" y="2971800"/>
              <a:ext cx="1600200" cy="1295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43"/>
          <p:cNvGrpSpPr/>
          <p:nvPr/>
        </p:nvGrpSpPr>
        <p:grpSpPr>
          <a:xfrm>
            <a:off x="1054080" y="1066680"/>
            <a:ext cx="7785000" cy="1295640"/>
            <a:chOff x="1054080" y="1066680"/>
            <a:chExt cx="7785000" cy="1295640"/>
          </a:xfrm>
        </p:grpSpPr>
        <p:sp>
          <p:nvSpPr>
            <p:cNvPr id="58" name="Text Box 5"/>
            <p:cNvSpPr/>
            <p:nvPr/>
          </p:nvSpPr>
          <p:spPr>
            <a:xfrm>
              <a:off x="1054080" y="1195560"/>
              <a:ext cx="597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A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Bose-Einstein condensate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(BEC)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42"/>
            <p:cNvSpPr/>
            <p:nvPr/>
          </p:nvSpPr>
          <p:spPr>
            <a:xfrm>
              <a:off x="7238880" y="1066680"/>
              <a:ext cx="1600200" cy="1295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Text Box 48"/>
          <p:cNvSpPr/>
          <p:nvPr/>
        </p:nvSpPr>
        <p:spPr>
          <a:xfrm>
            <a:off x="4665240" y="6477120"/>
            <a:ext cx="441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phases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4" descr=""/>
          <p:cNvPicPr/>
          <p:nvPr/>
        </p:nvPicPr>
        <p:blipFill>
          <a:blip r:embed="rId6"/>
          <a:stretch/>
        </p:blipFill>
        <p:spPr>
          <a:xfrm>
            <a:off x="67057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7"/>
          <a:stretch/>
        </p:blipFill>
        <p:spPr>
          <a:xfrm>
            <a:off x="6248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"/>
          <p:cNvPicPr/>
          <p:nvPr/>
        </p:nvPicPr>
        <p:blipFill>
          <a:blip r:embed="rId8"/>
          <a:stretch/>
        </p:blipFill>
        <p:spPr>
          <a:xfrm>
            <a:off x="5867280" y="1905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3"/>
          <p:cNvSpPr/>
          <p:nvPr/>
        </p:nvSpPr>
        <p:spPr>
          <a:xfrm>
            <a:off x="692280" y="3962520"/>
            <a:ext cx="19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a definite shape &amp;  a 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4917960" y="3851280"/>
            <a:ext cx="21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no definite shape, but has a 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401760" y="5958000"/>
            <a:ext cx="21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no definite shape &amp; no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MSj03882000000[1].wav" descr=""/>
          <p:cNvPicPr/>
          <p:nvPr/>
        </p:nvPicPr>
        <p:blipFill>
          <a:blip r:embed="rId9"/>
          <a:stretch/>
        </p:blipFill>
        <p:spPr>
          <a:xfrm>
            <a:off x="2444760" y="28814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MSj00748760000[1].wav" descr=""/>
          <p:cNvPicPr/>
          <p:nvPr/>
        </p:nvPicPr>
        <p:blipFill>
          <a:blip r:embed="rId10"/>
          <a:stretch/>
        </p:blipFill>
        <p:spPr>
          <a:xfrm>
            <a:off x="4273560" y="6060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89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415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7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73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431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312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17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14400" y="838080"/>
            <a:ext cx="7178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What causes matter to behave in a certain w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entury Schoolbook"/>
              </a:rPr>
              <a:t>At room temperature; why is Copper a solid, Mercury a liquid, and Helium a gas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II.</a:t>
            </a:r>
            <a:r>
              <a:rPr b="1" lang="en-US" sz="4000" spc="-1" strike="noStrike">
                <a:solidFill>
                  <a:srgbClr val="0099ff"/>
                </a:solidFill>
                <a:latin typeface="Century Schoolbook"/>
              </a:rPr>
              <a:t>  </a:t>
            </a: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The Kinetic Theory of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                    Matter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14400" y="17240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Moving particles have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energy, </a:t>
            </a:r>
            <a:r>
              <a:rPr b="1" i="1" lang="en-US" sz="3200" spc="-1" strike="noStrike">
                <a:solidFill>
                  <a:srgbClr val="ffff66"/>
                </a:solidFill>
                <a:latin typeface="Century Schoolbook"/>
              </a:rPr>
              <a:t>Kinetic Ener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914400" y="30430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ll particles of matt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re in constant 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-1219320" y="5715000"/>
            <a:ext cx="7621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9448920" y="5181480"/>
            <a:ext cx="761760" cy="762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-1219320" y="914400"/>
            <a:ext cx="762120" cy="76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1280880" y="4327560"/>
            <a:ext cx="67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motion determines the state or phase of mat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1289160" y="4861080"/>
            <a:ext cx="56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The motion gives matter certain prope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6781680" y="3048120"/>
            <a:ext cx="1600200" cy="1143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484800" y="6477120"/>
            <a:ext cx="55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causes matter to behave a certain way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1" descr=""/>
          <p:cNvPicPr/>
          <p:nvPr/>
        </p:nvPicPr>
        <p:blipFill>
          <a:blip r:embed="rId5"/>
          <a:stretch/>
        </p:blipFill>
        <p:spPr>
          <a:xfrm>
            <a:off x="-99072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"/>
          <p:cNvPicPr/>
          <p:nvPr/>
        </p:nvPicPr>
        <p:blipFill>
          <a:blip r:embed="rId6"/>
          <a:stretch/>
        </p:blipFill>
        <p:spPr>
          <a:xfrm>
            <a:off x="-6858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.00023 C 0.03733 -0.17904 0.07465 -0.35831 0.16701 -0.38515 C 0.25938 -0.41244 0.43854 -0.13093 0.55399 -0.16239 C 0.66945 -0.19431 0.76476 -0.47768 0.8599 -0.57483 C 0.95504 -0.67199 1.07882 -0.71339 1.12465 -0.74555 C 1.17049 -0.7777 1.15278 -0.77261 1.13524 -0.76752 E">
                                      <p:cBhvr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89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9292E-006 L 0.76667 0.91048 E">
                                      <p:cBhvr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45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45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66273E-006 C 0.00364 -0.01458 -0.00365 -0.03494 -0.00955 -0.0472 C -0.01077 -0.05437 -0.01337 -0.06154 -0.0165 -0.06755 C -0.01789 -0.07588 -0.0217 -0.08213 -0.02466 -0.08953 C -0.02848 -0.09878 -0.03004 -0.10896 -0.03403 -0.11775 C -0.03629 -0.12885 -0.04011 -0.13949 -0.04462 -0.14898 C -0.0467 -0.15962 -0.05295 -0.17766 -0.05903 -0.18506 C -0.06042 -0.19223 -0.06441 -0.19709 -0.06702 -0.2038 C -0.0717 -0.21629 -0.07761 -0.22716 -0.08351 -0.23827 C -0.0882 -0.24706 -0.09011 -0.25747 -0.0941 -0.26649 C -0.10382 -0.28823 -0.09445 -0.26741 -0.10226 -0.2806 C -0.11146 -0.2961 -0.11841 -0.31252 -0.13056 -0.32455 C -0.13716 -0.33797 -0.12848 -0.32177 -0.13646 -0.33241 C -0.14028 -0.3375 -0.1415 -0.34375 -0.14705 -0.34652 C -0.15382 -0.35555 -0.16164 -0.36272 -0.16823 -0.37151 C -0.17587 -0.38169 -0.16945 -0.37775 -0.17639 -0.38099 C -0.19427 -0.39996 -0.21493 -0.4106 -0.23403 -0.42656 C -0.23646 -0.42864 -0.23976 -0.42818 -0.24236 -0.42957 C -0.24827 -0.43281 -0.254 -0.43466 -0.2599 -0.43743 C -0.2691 -0.4416 -0.27726 -0.44692 -0.28698 -0.44854 C -0.29393 -0.45201 -0.29983 -0.45478 -0.30712 -0.45617 C -0.32431 -0.46427 -0.34445 -0.46542 -0.36233 -0.46727 C -0.40556 -0.46612 -0.42587 -0.46936 -0.46233 -0.45478 C -0.46667 -0.45085 -0.47066 -0.45039 -0.47535 -0.44692 C -0.48091 -0.44322 -0.48455 -0.43674 -0.49063 -0.43443 C -0.49618 -0.42934 -0.50469 -0.42332 -0.50938 -0.41708 C -0.51372 -0.41153 -0.5158 -0.40667 -0.52118 -0.40297 C -0.52657 -0.39348 -0.53282 -0.38492 -0.53768 -0.37475 C -0.54271 -0.36411 -0.54636 -0.35208 -0.55174 -0.3419 C -0.55313 -0.33311 -0.55643 -0.32663 -0.55886 -0.3183 C -0.56476 -0.29841 -0.56893 -0.27782 -0.57292 -0.25723 C -0.575 -0.23318 -0.57934 -0.20403 -0.57049 -0.18206 C -0.56806 -0.17604 -0.56476 -0.17072 -0.56233 -0.16471 C -0.55764 -0.15268 -0.56268 -0.16054 -0.55643 -0.15222 C -0.55278 -0.14227 -0.5474 -0.13209 -0.53993 -0.127 C -0.53664 -0.12006 -0.53351 -0.11428 -0.52813 -0.10988 C -0.52657 -0.1085 -0.52414 -0.10826 -0.5224 -0.10665 C -0.51823 -0.10294 -0.51459 -0.09832 -0.51059 -0.09415 C -0.50886 -0.0923 -0.5066 -0.0923 -0.50469 -0.09092 C -0.49566 -0.08444 -0.48716 -0.07565 -0.47761 -0.07056 C -0.47587 -0.06963 -0.47361 -0.06987 -0.4717 -0.06917 C -0.47049 -0.06871 -0.46927 -0.06825 -0.46823 -0.06755 C -0.4573 -0.06107 -0.44844 -0.05575 -0.43646 -0.05344 C -0.41841 -0.05414 -0.40295 -0.05228 -0.38594 -0.05807 C -0.38351 -0.06038 -0.38021 -0.06177 -0.37778 -0.06431 C -0.36997 -0.07172 -0.37813 -0.06755 -0.37049 -0.07056 C -0.36511 -0.07842 -0.35677 -0.08236 -0.35191 -0.09092 C -0.34966 -0.09439 -0.34775 -0.09832 -0.34584 -0.10202 C -0.34393 -0.10572 -0.33872 -0.1115 -0.33872 -0.1115 C -0.33646 -0.11914 -0.33368 -0.12492 -0.33056 -0.13186 C -0.32848 -0.1425 -0.32483 -0.15314 -0.32118 -0.16309 C -0.32049 -0.1698 -0.31875 -0.1765 -0.31875 -0.18344 C -0.31875 -0.24729 -0.31927 -0.3109 -0.31997 -0.37475 C -0.32032 -0.40782 -0.32709 -0.44322 -0.33646 -0.47352 C -0.33993 -0.48509 -0.34167 -0.49596 -0.34827 -0.50475 C -0.35052 -0.51493 -0.35539 -0.52002 -0.3599 -0.52834 C -0.36216 -0.53228 -0.36216 -0.53598 -0.36476 -0.53945 C -0.36615 -0.5413 -0.36806 -0.54222 -0.36945 -0.54407 C -0.37483 -0.55101 -0.37934 -0.55888 -0.3849 -0.56605 C -0.3941 -0.57831 -0.40556 -0.58687 -0.4165 -0.59589 C -0.42049 -0.59913 -0.42379 -0.60468 -0.42813 -0.60676 C -0.43247 -0.60861 -0.43976 -0.61208 -0.44375 -0.61463 C -0.44948 -0.61856 -0.45452 -0.62203 -0.46111 -0.62388 C -0.4724 -0.63174 -0.48525 -0.63452 -0.49757 -0.63799 C -0.5132 -0.64238 -0.52778 -0.64817 -0.54358 -0.65071 C -0.5467 -0.65117 -0.54983 -0.65164 -0.55295 -0.6521 C -0.55591 -0.65256 -0.55834 -0.65326 -0.56111 -0.65372 C -0.56823 -0.65488 -0.5823 -0.65696 -0.5823 -0.65696 C -0.59879 -0.65649 -0.61528 -0.65673 -0.63177 -0.65534 C -0.63698 -0.65488 -0.64219 -0.64909 -0.64705 -0.64747 C -0.6507 -0.64262 -0.65365 -0.63845 -0.65886 -0.6366 C -0.67153 -0.62365 -0.68542 -0.61092 -0.6941 -0.59265 C -0.69827 -0.58386 -0.70105 -0.57345 -0.70469 -0.56443 C -0.70695 -0.55911 -0.70695 -0.55379 -0.70938 -0.5487 C -0.71337 -0.52325 -0.72014 -0.49873 -0.72466 -0.47352 C -0.72778 -0.45617 -0.73039 -0.43905 -0.73403 -0.4217 C -0.73907 -0.39857 -0.74063 -0.37012 -0.75052 -0.34976 C -0.7533 -0.33519 -0.76355 -0.31298 -0.77049 -0.30119 C -0.77587 -0.29216 -0.775 -0.28962 -0.78351 -0.28708 C -0.80139 -0.288 -0.81146 -0.288 -0.82709 -0.29332 C -0.83212 -0.29772 -0.83768 -0.30095 -0.84358 -0.30257 C -0.8592 -0.31321 -0.87014 -0.32941 -0.88004 -0.34814 C -0.88195 -0.35693 -0.88646 -0.36225 -0.88941 -0.37012 C -0.89306 -0.3796 -0.8941 -0.38978 -0.89879 -0.39834 C -0.9033 -0.41569 -0.90486 -0.4342 -0.90938 -0.45154 C -0.91181 -0.48647 -0.91337 -0.51053 -0.9 -0.53945 C -0.89809 -0.55147 -0.89323 -0.56073 -0.8882 -0.57067 C -0.88594 -0.57507 -0.88108 -0.58317 -0.88108 -0.58317 C -0.87778 -0.59473 -0.8691 -0.60306 -0.86233 -0.61139 C -0.85955 -0.61486 -0.85695 -0.61879 -0.85417 -0.62249 C -0.85226 -0.62527 -0.84914 -0.62619 -0.84705 -0.62874 C -0.8441 -0.63221 -0.84219 -0.6373 -0.83872 -0.63961 C -0.83073 -0.64516 -0.82327 -0.65372 -0.8165 -0.66158 C -0.80295 -0.67731 -0.8217 -0.65395 -0.80591 -0.67107 C -0.79844 -0.67916 -0.78889 -0.69513 -0.78004 -0.69929 C -0.77466 -0.70831 -0.76789 -0.7171 -0.76111 -0.72427 C -0.75851 -0.72982 -0.75591 -0.73306 -0.75174 -0.73676 C -0.74601 -0.74833 -0.75348 -0.73445 -0.74462 -0.74625 C -0.73768 -0.7555 -0.74653 -0.74625 -0.74115 -0.75573 C -0.73941 -0.75874 -0.73716 -0.76082 -0.73525 -0.7636 C -0.73021 -0.77123 -0.73316 -0.76799 -0.72952 -0.77609 C -0.72205 -0.79135 -0.71511 -0.80593 -0.71059 -0.82305 C -0.71094 -0.84086 -0.71111 -0.85867 -0.71181 -0.87648 C -0.71216 -0.88411 -0.72639 -0.90794 -0.73177 -0.91234 C -0.73247 -0.91395 -0.73403 -0.91719 -0.73403 -0.91719 E">
                                      <p:cBhvr>
                                        <p:cTn id="12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89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066680" y="213372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What are the characteristics of each phase of matt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II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The </a:t>
            </a:r>
            <a:r>
              <a:rPr b="1" i="1" lang="en-US" sz="4400" spc="-1" strike="noStrike">
                <a:solidFill>
                  <a:srgbClr val="0099ff"/>
                </a:solidFill>
                <a:latin typeface="Century Schoolbook"/>
              </a:rPr>
              <a:t>Common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States of </a:t>
            </a:r>
            <a:br>
              <a:rPr sz="4400"/>
            </a:b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                   Matter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Sol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285920" y="2209680"/>
            <a:ext cx="46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ave a definite shape and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281240" y="2590920"/>
            <a:ext cx="73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packed very close together and have ord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2" descr="solid"/>
          <p:cNvPicPr/>
          <p:nvPr/>
        </p:nvPicPr>
        <p:blipFill>
          <a:blip r:embed="rId1"/>
          <a:stretch/>
        </p:blipFill>
        <p:spPr>
          <a:xfrm>
            <a:off x="2133720" y="3886200"/>
            <a:ext cx="2666880" cy="181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Text Box 15"/>
          <p:cNvSpPr/>
          <p:nvPr/>
        </p:nvSpPr>
        <p:spPr>
          <a:xfrm>
            <a:off x="1289880" y="2955960"/>
            <a:ext cx="45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fixed but can vib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6" descr="solidbonds"/>
          <p:cNvPicPr/>
          <p:nvPr/>
        </p:nvPicPr>
        <p:blipFill>
          <a:blip r:embed="rId2"/>
          <a:stretch/>
        </p:blipFill>
        <p:spPr>
          <a:xfrm>
            <a:off x="5334120" y="3505320"/>
            <a:ext cx="1666800" cy="153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17" descr="solidvib"/>
          <p:cNvPicPr/>
          <p:nvPr/>
        </p:nvPicPr>
        <p:blipFill>
          <a:blip r:embed="rId3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228600" y="5867280"/>
            <a:ext cx="1600200" cy="838440"/>
            <a:chOff x="228600" y="5867280"/>
            <a:chExt cx="1600200" cy="838440"/>
          </a:xfrm>
        </p:grpSpPr>
        <p:sp>
          <p:nvSpPr>
            <p:cNvPr id="94" name="Rectangle 22"/>
            <p:cNvSpPr/>
            <p:nvPr/>
          </p:nvSpPr>
          <p:spPr>
            <a:xfrm>
              <a:off x="228600" y="5867280"/>
              <a:ext cx="16002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Picture 21" descr="solid particles vibrate about a fixed point"/>
            <p:cNvPicPr/>
            <p:nvPr/>
          </p:nvPicPr>
          <p:blipFill>
            <a:blip r:embed="rId4"/>
            <a:stretch/>
          </p:blipFill>
          <p:spPr>
            <a:xfrm>
              <a:off x="228600" y="5905440"/>
              <a:ext cx="16002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Oval 24"/>
          <p:cNvSpPr/>
          <p:nvPr/>
        </p:nvSpPr>
        <p:spPr>
          <a:xfrm>
            <a:off x="4952880" y="5181480"/>
            <a:ext cx="2210040" cy="1067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495288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 in the cafeteri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iqtwo"/>
          <p:cNvPicPr/>
          <p:nvPr/>
        </p:nvPicPr>
        <p:blipFill>
          <a:blip r:embed="rId1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liquid"/>
          <p:cNvPicPr/>
          <p:nvPr/>
        </p:nvPicPr>
        <p:blipFill>
          <a:blip r:embed="rId2"/>
          <a:stretch/>
        </p:blipFill>
        <p:spPr>
          <a:xfrm>
            <a:off x="3124080" y="3886200"/>
            <a:ext cx="2514600" cy="197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Text Box 14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Liqu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289160" y="1219320"/>
            <a:ext cx="64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close together but they are free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ve a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939960" y="1905120"/>
            <a:ext cx="53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no definite shap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match the shape of its contain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95280" y="257508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a set volume due to the attrac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mong parti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0" descr="liquid particles move about constantly"/>
          <p:cNvPicPr/>
          <p:nvPr/>
        </p:nvPicPr>
        <p:blipFill>
          <a:blip r:embed="rId3"/>
          <a:stretch/>
        </p:blipFill>
        <p:spPr>
          <a:xfrm>
            <a:off x="228600" y="582948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106" name="Oval 21"/>
          <p:cNvSpPr/>
          <p:nvPr/>
        </p:nvSpPr>
        <p:spPr>
          <a:xfrm>
            <a:off x="6172200" y="3200400"/>
            <a:ext cx="220968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17220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 in the hallways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3:12:00Z</dcterms:created>
  <dc:creator>desktop</dc:creator>
  <dc:description/>
  <dc:language>en-US</dc:language>
  <cp:lastModifiedBy>rrita</cp:lastModifiedBy>
  <dcterms:modified xsi:type="dcterms:W3CDTF">2010-11-01T11:09:32Z</dcterms:modified>
  <cp:revision>127</cp:revision>
  <dc:subject/>
  <dc:title>The States of Matter</dc:title>
</cp:coreProperties>
</file>